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991-30D4-42E6-A768-F459AC9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BB3-46A4-480C-8846-2155F67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7F5-3827-494A-8487-23271CCF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B83-2204-43CF-B1B6-638414C3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D26-851C-4485-919D-C765F5A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FD-B0E1-4E54-8C21-438A23C4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D79-CE78-4284-BF35-47A032C6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CC9-297C-4092-86F8-5758482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554-1AE8-41CD-AC75-4CB59CAE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1ADA-C964-41E5-AD7B-83E3668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09F-FD29-482E-900B-DE09FBB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E61-A462-440A-BBDC-D532128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64F-494D-43EB-8F9F-2CF8BAFA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query.html" TargetMode="External"/><Relationship Id="rId3" Type="http://schemas.openxmlformats.org/officeDocument/2006/relationships/hyperlink" Target="http://web.mit.edu/invent/iow/query.html" TargetMode="External"/><Relationship Id="rId4" Type="http://schemas.openxmlformats.org/officeDocument/2006/relationships/hyperlink" Target="http://www.foodandthings.com/wp-content/uploads/2009/05/marshmallow-fluff-entert0406-de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c9c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January, 7</a:t>
            </a:r>
            <a:r>
              <a:rPr b="0" lang="en-US" sz="1800" spc="-1" strike="noStrike" baseline="30000">
                <a:solidFill>
                  <a:srgbClr val="3366ff"/>
                </a:solidFill>
                <a:latin typeface="Kristen ITC"/>
              </a:rPr>
              <a:t>th</a:t>
            </a: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 ,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9940400">
            <a:off x="533520" y="228240"/>
            <a:ext cx="6933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4adea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Kristen ITC"/>
              </a:rPr>
              <a:t>Marshmallow Flu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4adea"/>
                  </a:gs>
                  <a:gs pos="100000">
                    <a:srgbClr val="ffffff"/>
                  </a:gs>
                </a:gsLst>
                <a:lin ang="13500000"/>
              </a:gradFill>
              <a:latin typeface="Kristen ITC"/>
              <a:ea typeface="Kristen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76720" cy="306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ff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query"/>
          <p:cNvPicPr/>
          <p:nvPr/>
        </p:nvPicPr>
        <p:blipFill>
          <a:blip r:embed="rId1"/>
          <a:srcRect l="8892" t="36057" r="55559" b="17909"/>
          <a:stretch/>
        </p:blipFill>
        <p:spPr>
          <a:xfrm>
            <a:off x="6248520" y="0"/>
            <a:ext cx="2895480" cy="176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52280"/>
            <a:ext cx="5943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2dc"/>
                </a:solidFill>
                <a:latin typeface="Arial"/>
              </a:rPr>
              <a:t>Lemelsons MIT Program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"/>
              </a:rPr>
              <a:t>Marshmallow Fluf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d600"/>
                </a:solidFill>
                <a:latin typeface="Arial"/>
              </a:rPr>
              <a:t>January 11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.mit.edu/invent/iow/que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2dc"/>
                </a:solidFill>
                <a:latin typeface="Arial"/>
              </a:rPr>
              <a:t>Food and Thing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"/>
              </a:rPr>
              <a:t>Marshmallow Fluf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d600"/>
                </a:solidFill>
                <a:latin typeface="Arial"/>
              </a:rPr>
              <a:t>Januar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foodandthings.com/wp-content/uploads/2009/05/marshmallow-fluff-entert0406-d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2286000"/>
            <a:ext cx="36925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5438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Kristen ITC"/>
              </a:rPr>
              <a:t>Invention: Marshmallow Fl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22d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a22dc"/>
                </a:solidFill>
                <a:latin typeface="Kristen ITC"/>
              </a:rPr>
              <a:t>Made in the 1917’s it is made of corn syrup, sugar, dried egg whites, vanill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A sandwich they made is called the Fluffernu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d6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600"/>
                </a:solidFill>
                <a:latin typeface="Kristen ITC"/>
              </a:rPr>
              <a:t>It’s made with white bread, peanut butter, and Marshmallow Flu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Kristen ITC"/>
              </a:rPr>
              <a:t>Made by Archibald Query as a marshmallow cr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t is a gooey sugary substances that in the 1900 was used to dress up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d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Kristen ITC"/>
              </a:rPr>
              <a:t>Inventor: Archibald 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22d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22dc"/>
                </a:solidFill>
                <a:latin typeface="Kristen ITC"/>
              </a:rPr>
              <a:t>Query, a resident of Somerville Mass., developed a recipe for marshmallow crème in his  own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Kristen ITC"/>
              </a:rPr>
              <a:t>He began to sell it door to door with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6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600"/>
                </a:solidFill>
                <a:latin typeface="Kristen ITC"/>
              </a:rPr>
              <a:t>He sold his recipe for $500 to Allen Durkee and Fred Mower and they made it them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Kristen ITC"/>
              </a:rPr>
              <a:t>It went to a show called Fluffnuter which lasted 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y then made a sandwich called the Fluffern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9:56Z</dcterms:created>
  <dc:creator>install</dc:creator>
  <dc:description/>
  <dc:language>en-US</dc:language>
  <cp:lastModifiedBy>install</cp:lastModifiedBy>
  <dcterms:modified xsi:type="dcterms:W3CDTF">2011-01-14T17:10:00Z</dcterms:modified>
  <cp:revision>8</cp:revision>
  <dc:subject/>
  <dc:title>Slide 1</dc:title>
</cp:coreProperties>
</file>